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5.jpeg" ContentType="image/jpeg"/>
  <Override PartName="/ppt/media/image2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111-6C96-4CCA-99EE-2AFB5981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961-91A3-423A-91E0-3518745E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F3F2-6454-4722-A82E-8A61FBBE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02EF-4120-402D-A68A-6086A56A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9153-9868-4A6E-A7E4-7F371E72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1633-2785-4733-91D3-1D5410B5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603-68B1-4B23-9CBC-DDA79AC4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8C7A-EA3A-4F92-A9B8-933FE4CA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074-4E76-49AF-9625-34F5FF23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46B9-60D4-4727-B21C-A610DBD1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7842-4AB7-4113-A8C2-862A22C3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2B5-F766-40B2-A965-2B7074A3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089D-AD7C-4A35-B622-D2C89E8925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05320"/>
            <a:ext cx="8458200" cy="533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Power Quality Monitoring:</a:t>
            </a:r>
            <a:br>
              <a:rPr sz="4400"/>
            </a:b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Universal measurement tools for customers and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eslogo_1" descr=""/>
          <p:cNvPicPr/>
          <p:nvPr/>
        </p:nvPicPr>
        <p:blipFill>
          <a:blip r:embed="rId1"/>
          <a:stretch/>
        </p:blipFill>
        <p:spPr>
          <a:xfrm>
            <a:off x="1905120" y="5334120"/>
            <a:ext cx="5257800" cy="1014120"/>
          </a:xfrm>
          <a:prstGeom prst="rect">
            <a:avLst/>
          </a:prstGeom>
          <a:ln w="0">
            <a:noFill/>
          </a:ln>
        </p:spPr>
      </p:pic>
      <p:pic>
        <p:nvPicPr>
          <p:cNvPr id="44" name="LMG95_Foto_Produktinfo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152388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SYS61K_3Phasen_rgb_9x13_300dpi" descr=""/>
          <p:cNvPicPr/>
          <p:nvPr/>
        </p:nvPicPr>
        <p:blipFill>
          <a:blip r:embed="rId3"/>
          <a:stretch/>
        </p:blipFill>
        <p:spPr>
          <a:xfrm>
            <a:off x="3886200" y="2666880"/>
            <a:ext cx="15303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LMG310_Foto_Produktinfo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50984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LMG450_Foto_Produktinfo" descr=""/>
          <p:cNvPicPr/>
          <p:nvPr/>
        </p:nvPicPr>
        <p:blipFill>
          <a:blip r:embed="rId5"/>
          <a:stretch/>
        </p:blipFill>
        <p:spPr>
          <a:xfrm>
            <a:off x="5486400" y="2666880"/>
            <a:ext cx="1523880" cy="1059120"/>
          </a:xfrm>
          <a:prstGeom prst="rect">
            <a:avLst/>
          </a:prstGeom>
          <a:ln w="0">
            <a:noFill/>
          </a:ln>
        </p:spPr>
      </p:pic>
      <p:pic>
        <p:nvPicPr>
          <p:cNvPr id="48" name="pqa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1523880" cy="109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QA_ppt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380988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lientele of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990720"/>
            <a:ext cx="42670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pply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1337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motors,  convert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5909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electrical appli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048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eavy industry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762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ig contr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9625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ject and consulting engineer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easuring with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LMG%20450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1676520" cy="124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666880" y="990720"/>
            <a:ext cx="1185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23880" y="2362320"/>
            <a:ext cx="1752480" cy="1447560"/>
            <a:chOff x="1523880" y="2362320"/>
            <a:chExt cx="1752480" cy="1447560"/>
          </a:xfrm>
        </p:grpSpPr>
        <p:grpSp>
          <p:nvGrpSpPr>
            <p:cNvPr id="189" name=""/>
            <p:cNvGrpSpPr/>
            <p:nvPr/>
          </p:nvGrpSpPr>
          <p:grpSpPr>
            <a:xfrm>
              <a:off x="2057400" y="2362320"/>
              <a:ext cx="1218600" cy="1295280"/>
              <a:chOff x="2057400" y="2362320"/>
              <a:chExt cx="1218600" cy="1295280"/>
            </a:xfrm>
          </p:grpSpPr>
          <p:sp>
            <p:nvSpPr>
              <p:cNvPr id="190" name=""/>
              <p:cNvSpPr/>
              <p:nvPr/>
            </p:nvSpPr>
            <p:spPr>
              <a:xfrm>
                <a:off x="2361960" y="2362320"/>
                <a:ext cx="0" cy="1295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1960" y="3657600"/>
                <a:ext cx="91404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7400" y="2895480"/>
                <a:ext cx="1066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66"/>
                    </a:solidFill>
                    <a:latin typeface="Arial"/>
                  </a:rPr>
                  <a:t>4x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828800" y="2362320"/>
              <a:ext cx="0" cy="1447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809880"/>
              <a:ext cx="14475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289548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66"/>
                  </a:solidFill>
                  <a:latin typeface="Arial"/>
                </a:rPr>
                <a:t>4x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715000" y="838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38080" y="4572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91520" y="838080"/>
            <a:ext cx="1245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715000" y="2514600"/>
            <a:ext cx="2561760" cy="1143000"/>
            <a:chOff x="5715000" y="2514600"/>
            <a:chExt cx="2561760" cy="1143000"/>
          </a:xfrm>
        </p:grpSpPr>
        <p:sp>
          <p:nvSpPr>
            <p:cNvPr id="201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01040" y="2743200"/>
              <a:ext cx="2475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dditional analo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nd digital in- /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28440" y="4114800"/>
            <a:ext cx="2595240" cy="1219320"/>
            <a:chOff x="1828440" y="4114800"/>
            <a:chExt cx="2595240" cy="1219320"/>
          </a:xfrm>
        </p:grpSpPr>
        <p:sp>
          <p:nvSpPr>
            <p:cNvPr id="206" name=""/>
            <p:cNvSpPr/>
            <p:nvPr/>
          </p:nvSpPr>
          <p:spPr>
            <a:xfrm>
              <a:off x="3352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2844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7800" y="4648320"/>
              <a:ext cx="213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USB link, GPIB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03120" y="4114800"/>
            <a:ext cx="2359080" cy="1219320"/>
            <a:chOff x="4803120" y="4114800"/>
            <a:chExt cx="2359080" cy="1219320"/>
          </a:xfrm>
        </p:grpSpPr>
        <p:sp>
          <p:nvSpPr>
            <p:cNvPr id="210" name=""/>
            <p:cNvSpPr/>
            <p:nvPr/>
          </p:nvSpPr>
          <p:spPr>
            <a:xfrm>
              <a:off x="5638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3832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3120" y="4495680"/>
              <a:ext cx="1665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Ether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(LAN or dir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NDL_ppt" descr="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rocessing the Meas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14300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according EN50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sentation all measured values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atistical and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timation of voltage dips and s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voltage and current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ripple control signals (signalling vol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nting and copying all pictures and tex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 of measured data in ASCII-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N50160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867280" cy="3531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762120"/>
            <a:ext cx="7010640" cy="1904760"/>
          </a:xfrm>
          <a:prstGeom prst="wedgeEllipseCallout">
            <a:avLst>
              <a:gd name="adj1" fmla="val 61527"/>
              <a:gd name="adj2" fmla="val 826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0720" y="3276720"/>
            <a:ext cx="229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ercentage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nside the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514600"/>
            <a:ext cx="6019920" cy="1752480"/>
          </a:xfrm>
          <a:prstGeom prst="wedgeEllipseCallout">
            <a:avLst>
              <a:gd name="adj1" fmla="val -41009"/>
              <a:gd name="adj2" fmla="val 9248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880" y="50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tailed description of tes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5410080" cy="2779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80" y="1143000"/>
            <a:ext cx="6019920" cy="838080"/>
          </a:xfrm>
          <a:prstGeom prst="wedgeEllipseCallout">
            <a:avLst>
              <a:gd name="adj1" fmla="val 80087"/>
              <a:gd name="adj2" fmla="val 70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720" y="213372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Maximum and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f the analysed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905120"/>
            <a:ext cx="5791320" cy="1523880"/>
          </a:xfrm>
          <a:prstGeom prst="wedgeEllipseCallout">
            <a:avLst>
              <a:gd name="adj1" fmla="val -49069"/>
              <a:gd name="adj2" fmla="val 946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880" y="403848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ime plot of the analys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76582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easur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16292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838080" y="198108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447920" y="2666880"/>
            <a:ext cx="7391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valuating Voltage D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067520" cy="503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2280" y="914400"/>
            <a:ext cx="4724640" cy="838080"/>
          </a:xfrm>
          <a:prstGeom prst="wedgeEllipseCallout">
            <a:avLst>
              <a:gd name="adj1" fmla="val 109240"/>
              <a:gd name="adj2" fmla="val -47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914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uration and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71800"/>
            <a:ext cx="7772400" cy="2438280"/>
          </a:xfrm>
          <a:prstGeom prst="wedgeEllipseCallout">
            <a:avLst>
              <a:gd name="adj1" fmla="val 50388"/>
              <a:gd name="adj2" fmla="val -8984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90512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l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pth-dur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isplaying the Voltag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562880" cy="257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19800" y="365760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the 10ms values of the lin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- and post-triggering time can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avefor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562880" cy="2571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0120" y="3657600"/>
            <a:ext cx="45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waveform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ampling rate can be chosen up to 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ain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2640" y="3657600"/>
            <a:ext cx="708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centre frequency of main signalling must be chosen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signalling voltage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hile analysing you are able to see a “voltage telegr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562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762120"/>
            <a:ext cx="716256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cision Measurement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 Power, Energy, Harmonics, Fl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and Disturb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276720"/>
            <a:ext cx="4038840" cy="13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wer Analysers L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n Components, De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ppliance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perties of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LMG95, LMG310, LMG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duct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SYS6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10552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etwork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QA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50000">
            <a:off x="1447560" y="342900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7950000">
            <a:off x="6629040" y="33526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4800">
            <a:off x="4494960" y="457200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6668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218960" y="121860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24640" y="121824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9144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rn power quality monitoring requires a high-precise measurement of custom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of the existing measuring tools are not able to fulfil an accurate measurement on power electronic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QA450 combines the capability of a power quality analyser with properties of high-performance power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can be used for power quality monitoring as well as for analysis of power electronic equipment with long-term data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Functionality of ZES Power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143000"/>
            <a:ext cx="7162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asuring tools for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lectronic equipment, electr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app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954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electronic in industrial and household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716256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generation, transmission and distribution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lectr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33920"/>
            <a:ext cx="609840" cy="1828800"/>
          </a:xfrm>
          <a:custGeom>
            <a:avLst/>
            <a:gdLst>
              <a:gd name="textAreaLeft" fmla="*/ 81720 w 609840"/>
              <a:gd name="textAreaRight" fmla="*/ 528120 w 6098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8305560" y="3352680"/>
            <a:ext cx="609480" cy="1905120"/>
          </a:xfrm>
          <a:custGeom>
            <a:avLst/>
            <a:gdLst>
              <a:gd name="textAreaLeft" fmla="*/ 81360 w 609480"/>
              <a:gd name="textAreaRight" fmla="*/ 528120 w 6094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819720" y="980280"/>
            <a:ext cx="6839280" cy="4872240"/>
            <a:chOff x="819720" y="980280"/>
            <a:chExt cx="6839280" cy="4872240"/>
          </a:xfrm>
        </p:grpSpPr>
        <p:sp>
          <p:nvSpPr>
            <p:cNvPr id="75" name=""/>
            <p:cNvSpPr/>
            <p:nvPr/>
          </p:nvSpPr>
          <p:spPr>
            <a:xfrm rot="1138800">
              <a:off x="1143000" y="1905120"/>
              <a:ext cx="6192720" cy="3022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8000" y="19810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49920" y="785880"/>
            <a:ext cx="4563720" cy="5084640"/>
            <a:chOff x="3949920" y="785880"/>
            <a:chExt cx="4563720" cy="5084640"/>
          </a:xfrm>
        </p:grpSpPr>
        <p:sp>
          <p:nvSpPr>
            <p:cNvPr id="78" name=""/>
            <p:cNvSpPr/>
            <p:nvPr/>
          </p:nvSpPr>
          <p:spPr>
            <a:xfrm rot="18298800">
              <a:off x="3970080" y="2125440"/>
              <a:ext cx="4523040" cy="2405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3800" y="1100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 &amp;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38480"/>
            <a:ext cx="1676160" cy="1371600"/>
            <a:chOff x="762120" y="4038480"/>
            <a:chExt cx="1676160" cy="1371600"/>
          </a:xfrm>
        </p:grpSpPr>
        <p:sp>
          <p:nvSpPr>
            <p:cNvPr id="81" name=""/>
            <p:cNvSpPr/>
            <p:nvPr/>
          </p:nvSpPr>
          <p:spPr>
            <a:xfrm>
              <a:off x="762120" y="4191120"/>
              <a:ext cx="1676160" cy="1218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2040" y="40384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43160" y="838080"/>
            <a:ext cx="8700840" cy="5092920"/>
            <a:chOff x="443160" y="838080"/>
            <a:chExt cx="8700840" cy="5092920"/>
          </a:xfrm>
        </p:grpSpPr>
        <p:sp>
          <p:nvSpPr>
            <p:cNvPr id="84" name=""/>
            <p:cNvSpPr/>
            <p:nvPr/>
          </p:nvSpPr>
          <p:spPr>
            <a:xfrm>
              <a:off x="443160" y="83808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sic Accuracy [%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8840" y="5105520"/>
              <a:ext cx="159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ndwidth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6680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6800" y="5486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800" y="44956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6800" y="320040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6800" y="1981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4433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11984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960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725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4720" y="556272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K                    10K                    100K                    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" y="1752480"/>
            <a:ext cx="68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5256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ain Application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zeslogo_1" descr=""/>
          <p:cNvPicPr/>
          <p:nvPr/>
        </p:nvPicPr>
        <p:blipFill>
          <a:blip r:embed="rId4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671840" y="4495680"/>
            <a:ext cx="1351080" cy="1080360"/>
            <a:chOff x="1671840" y="4495680"/>
            <a:chExt cx="1351080" cy="1080360"/>
          </a:xfrm>
        </p:grpSpPr>
        <p:sp>
          <p:nvSpPr>
            <p:cNvPr id="101" name=""/>
            <p:cNvSpPr/>
            <p:nvPr/>
          </p:nvSpPr>
          <p:spPr>
            <a:xfrm>
              <a:off x="1671840" y="52995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M39 0.2% 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tm39_cee" descr=""/>
            <p:cNvPicPr/>
            <p:nvPr/>
          </p:nvPicPr>
          <p:blipFill>
            <a:blip r:embed="rId5"/>
            <a:stretch/>
          </p:blipFill>
          <p:spPr>
            <a:xfrm>
              <a:off x="1801080" y="4495680"/>
              <a:ext cx="1123920" cy="89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1738800" y="2895480"/>
            <a:ext cx="1877040" cy="1297440"/>
            <a:chOff x="1738800" y="2895480"/>
            <a:chExt cx="1877040" cy="1297440"/>
          </a:xfrm>
        </p:grpSpPr>
        <p:sp>
          <p:nvSpPr>
            <p:cNvPr id="104" name=""/>
            <p:cNvSpPr/>
            <p:nvPr/>
          </p:nvSpPr>
          <p:spPr>
            <a:xfrm>
              <a:off x="1738800" y="388584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0 0.02% 5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LMG90_1" descr=""/>
            <p:cNvPicPr/>
            <p:nvPr/>
          </p:nvPicPr>
          <p:blipFill>
            <a:blip r:embed="rId6"/>
            <a:stretch/>
          </p:blipFill>
          <p:spPr>
            <a:xfrm>
              <a:off x="1752480" y="2895480"/>
              <a:ext cx="1752480" cy="11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3657600" y="3657600"/>
            <a:ext cx="1928520" cy="1105560"/>
            <a:chOff x="3657600" y="3657600"/>
            <a:chExt cx="1928520" cy="1105560"/>
          </a:xfrm>
        </p:grpSpPr>
        <p:sp>
          <p:nvSpPr>
            <p:cNvPr id="107" name=""/>
            <p:cNvSpPr/>
            <p:nvPr/>
          </p:nvSpPr>
          <p:spPr>
            <a:xfrm>
              <a:off x="3709080" y="445608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450 0.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LMG%20450" descr=""/>
            <p:cNvPicPr/>
            <p:nvPr/>
          </p:nvPicPr>
          <p:blipFill>
            <a:blip r:embed="rId7"/>
            <a:stretch/>
          </p:blipFill>
          <p:spPr>
            <a:xfrm>
              <a:off x="3657600" y="3657600"/>
              <a:ext cx="189072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86080" y="1066680"/>
            <a:ext cx="2215440" cy="1069200"/>
            <a:chOff x="586080" y="1066680"/>
            <a:chExt cx="2215440" cy="1069200"/>
          </a:xfrm>
        </p:grpSpPr>
        <p:sp>
          <p:nvSpPr>
            <p:cNvPr id="110" name=""/>
            <p:cNvSpPr/>
            <p:nvPr/>
          </p:nvSpPr>
          <p:spPr>
            <a:xfrm>
              <a:off x="586080" y="1828800"/>
              <a:ext cx="22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-Ref 0.015% 50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lmg95" descr=""/>
            <p:cNvPicPr/>
            <p:nvPr/>
          </p:nvPicPr>
          <p:blipFill>
            <a:blip r:embed="rId8"/>
            <a:stretch/>
          </p:blipFill>
          <p:spPr>
            <a:xfrm>
              <a:off x="754200" y="106668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772240" y="2895480"/>
            <a:ext cx="2081160" cy="1297440"/>
            <a:chOff x="5772240" y="2895480"/>
            <a:chExt cx="2081160" cy="1297440"/>
          </a:xfrm>
        </p:grpSpPr>
        <p:sp>
          <p:nvSpPr>
            <p:cNvPr id="113" name=""/>
            <p:cNvSpPr/>
            <p:nvPr/>
          </p:nvSpPr>
          <p:spPr>
            <a:xfrm>
              <a:off x="5772240" y="388584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310 0.05% 4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LMG%20310" descr=""/>
            <p:cNvPicPr/>
            <p:nvPr/>
          </p:nvPicPr>
          <p:blipFill>
            <a:blip r:embed="rId9"/>
            <a:stretch/>
          </p:blipFill>
          <p:spPr>
            <a:xfrm>
              <a:off x="5791320" y="2895480"/>
              <a:ext cx="20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605280" y="1828800"/>
            <a:ext cx="1978920" cy="1069200"/>
            <a:chOff x="6605280" y="1828800"/>
            <a:chExt cx="1978920" cy="1069200"/>
          </a:xfrm>
        </p:grpSpPr>
        <p:sp>
          <p:nvSpPr>
            <p:cNvPr id="116" name=""/>
            <p:cNvSpPr/>
            <p:nvPr/>
          </p:nvSpPr>
          <p:spPr>
            <a:xfrm>
              <a:off x="6605280" y="259092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 0.02% 5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lmg95" descr=""/>
            <p:cNvPicPr/>
            <p:nvPr/>
          </p:nvPicPr>
          <p:blipFill>
            <a:blip r:embed="rId10"/>
            <a:stretch/>
          </p:blipFill>
          <p:spPr>
            <a:xfrm>
              <a:off x="6686640" y="182880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87880" y="4191120"/>
            <a:ext cx="1918080" cy="1145160"/>
            <a:chOff x="4187880" y="4191120"/>
            <a:chExt cx="1918080" cy="1145160"/>
          </a:xfrm>
        </p:grpSpPr>
        <p:pic>
          <p:nvPicPr>
            <p:cNvPr id="119" name="PQA_ppt" descr=""/>
            <p:cNvPicPr/>
            <p:nvPr/>
          </p:nvPicPr>
          <p:blipFill>
            <a:blip r:embed="rId11"/>
            <a:stretch/>
          </p:blipFill>
          <p:spPr>
            <a:xfrm>
              <a:off x="4267440" y="419112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187880" y="5029200"/>
              <a:ext cx="191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QA 450 0,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Monitor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9051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pecif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cribing the 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Selecting the Monitoring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160020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-cost instruments (measurement and display of the present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il mounted devices for continuous monitoring and events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lack-box“ analysers with logg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igh performance analysers with logging and visua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Objects of Power Quality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eraction of custom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914400"/>
            <a:ext cx="2514600" cy="5181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990720"/>
            <a:ext cx="259092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Q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990720"/>
            <a:ext cx="259056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1160" y="213372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easurement site                         Network                          Ap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1880" y="2743200"/>
            <a:ext cx="86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ually used tools                      PQ Analyser                    Power meter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2600" y="3352680"/>
            <a:ext cx="822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eded capabilities                     Analysis of                         Long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ustomer                         data log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" y="51055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solutio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4800600"/>
            <a:ext cx="2286000" cy="1143000"/>
            <a:chOff x="4572000" y="4800600"/>
            <a:chExt cx="2286000" cy="1143000"/>
          </a:xfrm>
        </p:grpSpPr>
        <p:pic>
          <p:nvPicPr>
            <p:cNvPr id="147" name="PQA_ppt" descr=""/>
            <p:cNvPicPr/>
            <p:nvPr/>
          </p:nvPicPr>
          <p:blipFill>
            <a:blip r:embed="rId2"/>
            <a:stretch/>
          </p:blipFill>
          <p:spPr>
            <a:xfrm>
              <a:off x="4572000" y="4800600"/>
              <a:ext cx="2286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32080" y="51055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PQA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Analysers vs. Power Me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4419720"/>
            <a:ext cx="1066680" cy="1218960"/>
          </a:xfrm>
          <a:custGeom>
            <a:avLst/>
            <a:gdLst>
              <a:gd name="textAreaLeft" fmla="*/ 0 w 1066680"/>
              <a:gd name="textAreaRight" fmla="*/ 106704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57280" y="4419720"/>
            <a:ext cx="1066680" cy="121896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QA_ppt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09880" cy="19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hat can PQA450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9144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ccording EN50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4724280" cy="3812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recent results (on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952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ng-term data 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nd visualis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6668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Data analysis during the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47242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trol and data transfer over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038480"/>
            <a:ext cx="472428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ll measured valu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olution of 200 ms (10 ms for vol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648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ndwidth 20 kHz, accuracy 0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105520"/>
            <a:ext cx="4724280" cy="609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curate 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or small cos </a:t>
            </a:r>
            <a:r>
              <a:rPr b="1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791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ditional analogue and digital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676520"/>
            <a:ext cx="4724280" cy="533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egistr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r.m.s. values, curve forms, main signa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20:01:16Z</dcterms:created>
  <dc:creator>Dr.-Ing. Alexander Kuznietsov</dc:creator>
  <dc:description/>
  <dc:language>en-US</dc:language>
  <cp:lastModifiedBy>A. Kuznietsov</cp:lastModifiedBy>
  <cp:lastPrinted>2003-08-25T12:40:32Z</cp:lastPrinted>
  <dcterms:modified xsi:type="dcterms:W3CDTF">2003-08-25T12:41:26Z</dcterms:modified>
  <cp:revision>41</cp:revision>
  <dc:subject/>
  <dc:title>PQA450</dc:title>
</cp:coreProperties>
</file>