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6.png" ContentType="image/png"/>
  <Override PartName="/ppt/media/image23.png" ContentType="image/png"/>
  <Override PartName="/ppt/media/image5.jpeg" ContentType="image/jpeg"/>
  <Override PartName="/ppt/media/image20.wmf" ContentType="image/x-wmf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10.png" ContentType="image/png"/>
  <Override PartName="/ppt/media/image4.jpeg" ContentType="image/jpeg"/>
  <Override PartName="/ppt/media/image25.png" ContentType="image/png"/>
  <Override PartName="/ppt/media/image18.wmf" ContentType="image/x-wmf"/>
  <Override PartName="/ppt/media/image2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9.wmf" ContentType="image/x-wmf"/>
  <Override PartName="/ppt/media/image21.wmf" ContentType="image/x-wmf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7B79-A5C6-48EC-B5DA-B806C8525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D315-038B-49BF-A9EC-E68437CF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2C24-E056-4CFC-B38F-BA377D1A5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B12C-75CC-4EDD-A3FA-9764527A2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8946-4F1A-4AB5-9BCE-FF079519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4FF0-4B83-4DBF-81E1-9C0A7530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75E2-7094-431D-A1A1-6C203272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49C7-26F0-44FE-A508-F162A5B1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5505-D2BA-4EA3-BDE8-D7464B39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465B-736D-4186-BDCF-BAE80FD7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9281-D863-4ABE-8BB1-46801A36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DCB3-A548-4CE5-A9CD-2B5012EA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EE1E-6C6E-42E1-A134-74A442303B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3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505320"/>
            <a:ext cx="8458200" cy="5331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66"/>
                </a:solidFill>
                <a:latin typeface="Arial"/>
              </a:rPr>
              <a:t>Power Quality Monitoring:</a:t>
            </a:r>
            <a:br>
              <a:rPr sz="4400"/>
            </a:br>
            <a:r>
              <a:rPr b="0" i="1" lang="en-GB" sz="4400" spc="-1" strike="noStrike">
                <a:solidFill>
                  <a:srgbClr val="000066"/>
                </a:solidFill>
                <a:latin typeface="Arial"/>
              </a:rPr>
              <a:t>Universal measurement tools for customers and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zeslogo_1" descr=""/>
          <p:cNvPicPr/>
          <p:nvPr/>
        </p:nvPicPr>
        <p:blipFill>
          <a:blip r:embed="rId1"/>
          <a:stretch/>
        </p:blipFill>
        <p:spPr>
          <a:xfrm>
            <a:off x="1905120" y="5334120"/>
            <a:ext cx="5257800" cy="1014120"/>
          </a:xfrm>
          <a:prstGeom prst="rect">
            <a:avLst/>
          </a:prstGeom>
          <a:ln w="0">
            <a:noFill/>
          </a:ln>
        </p:spPr>
      </p:pic>
      <p:pic>
        <p:nvPicPr>
          <p:cNvPr id="44" name="LMG95_Foto_Produktinfo" descr=""/>
          <p:cNvPicPr/>
          <p:nvPr/>
        </p:nvPicPr>
        <p:blipFill>
          <a:blip r:embed="rId2"/>
          <a:stretch/>
        </p:blipFill>
        <p:spPr>
          <a:xfrm>
            <a:off x="2286000" y="2666880"/>
            <a:ext cx="1523880" cy="1055880"/>
          </a:xfrm>
          <a:prstGeom prst="rect">
            <a:avLst/>
          </a:prstGeom>
          <a:ln w="0">
            <a:noFill/>
          </a:ln>
        </p:spPr>
      </p:pic>
      <p:pic>
        <p:nvPicPr>
          <p:cNvPr id="45" name="SYS61K_3Phasen_rgb_9x13_300dpi" descr=""/>
          <p:cNvPicPr/>
          <p:nvPr/>
        </p:nvPicPr>
        <p:blipFill>
          <a:blip r:embed="rId3"/>
          <a:stretch/>
        </p:blipFill>
        <p:spPr>
          <a:xfrm>
            <a:off x="3886200" y="2666880"/>
            <a:ext cx="1530360" cy="2210040"/>
          </a:xfrm>
          <a:prstGeom prst="rect">
            <a:avLst/>
          </a:prstGeom>
          <a:ln w="0">
            <a:noFill/>
          </a:ln>
        </p:spPr>
      </p:pic>
      <p:pic>
        <p:nvPicPr>
          <p:cNvPr id="46" name="LMG310_Foto_Produktinfo" descr=""/>
          <p:cNvPicPr/>
          <p:nvPr/>
        </p:nvPicPr>
        <p:blipFill>
          <a:blip r:embed="rId4"/>
          <a:stretch/>
        </p:blipFill>
        <p:spPr>
          <a:xfrm>
            <a:off x="2286000" y="3809880"/>
            <a:ext cx="1509840" cy="1047960"/>
          </a:xfrm>
          <a:prstGeom prst="rect">
            <a:avLst/>
          </a:prstGeom>
          <a:ln w="0">
            <a:noFill/>
          </a:ln>
        </p:spPr>
      </p:pic>
      <p:pic>
        <p:nvPicPr>
          <p:cNvPr id="47" name="LMG450_Foto_Produktinfo" descr=""/>
          <p:cNvPicPr/>
          <p:nvPr/>
        </p:nvPicPr>
        <p:blipFill>
          <a:blip r:embed="rId5"/>
          <a:stretch/>
        </p:blipFill>
        <p:spPr>
          <a:xfrm>
            <a:off x="5486400" y="2666880"/>
            <a:ext cx="1523880" cy="1059120"/>
          </a:xfrm>
          <a:prstGeom prst="rect">
            <a:avLst/>
          </a:prstGeom>
          <a:ln w="0">
            <a:noFill/>
          </a:ln>
        </p:spPr>
      </p:pic>
      <p:pic>
        <p:nvPicPr>
          <p:cNvPr id="48" name="pqa" descr=""/>
          <p:cNvPicPr/>
          <p:nvPr/>
        </p:nvPicPr>
        <p:blipFill>
          <a:blip r:embed="rId6"/>
          <a:stretch/>
        </p:blipFill>
        <p:spPr>
          <a:xfrm>
            <a:off x="5486400" y="3809880"/>
            <a:ext cx="1523880" cy="1094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QA_ppt" descr=""/>
          <p:cNvPicPr/>
          <p:nvPr/>
        </p:nvPicPr>
        <p:blipFill>
          <a:blip r:embed="rId1"/>
          <a:stretch/>
        </p:blipFill>
        <p:spPr>
          <a:xfrm>
            <a:off x="4800600" y="990720"/>
            <a:ext cx="3809880" cy="19047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lientele of PQA4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zeslogo_1" descr=""/>
          <p:cNvPicPr/>
          <p:nvPr/>
        </p:nvPicPr>
        <p:blipFill>
          <a:blip r:embed="rId2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28600" y="990720"/>
            <a:ext cx="4267080" cy="3045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Supply ut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21337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Manufacturers of motors,  converter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25909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Manufacturers of electrical appli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30481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Heavy industry pl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7621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35053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Big contr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39625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oject and consulting engineering 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Measuring with PQA4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LMG%20450" descr=""/>
          <p:cNvPicPr/>
          <p:nvPr/>
        </p:nvPicPr>
        <p:blipFill>
          <a:blip r:embed="rId2"/>
          <a:stretch/>
        </p:blipFill>
        <p:spPr>
          <a:xfrm>
            <a:off x="3200400" y="3048120"/>
            <a:ext cx="2590920" cy="12747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914400" y="914400"/>
            <a:ext cx="1676520" cy="1246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2666880" y="990720"/>
            <a:ext cx="1185840" cy="1295280"/>
          </a:xfrm>
          <a:prstGeom prst="rect">
            <a:avLst/>
          </a:prstGeom>
          <a:ln w="0">
            <a:noFill/>
          </a:ln>
        </p:spPr>
      </p:pic>
      <p:grpSp>
        <p:nvGrpSpPr>
          <p:cNvPr id="188" name=""/>
          <p:cNvGrpSpPr/>
          <p:nvPr/>
        </p:nvGrpSpPr>
        <p:grpSpPr>
          <a:xfrm>
            <a:off x="1523880" y="2362320"/>
            <a:ext cx="1752480" cy="1447560"/>
            <a:chOff x="1523880" y="2362320"/>
            <a:chExt cx="1752480" cy="1447560"/>
          </a:xfrm>
        </p:grpSpPr>
        <p:grpSp>
          <p:nvGrpSpPr>
            <p:cNvPr id="189" name=""/>
            <p:cNvGrpSpPr/>
            <p:nvPr/>
          </p:nvGrpSpPr>
          <p:grpSpPr>
            <a:xfrm>
              <a:off x="2057400" y="2362320"/>
              <a:ext cx="1218600" cy="1295280"/>
              <a:chOff x="2057400" y="2362320"/>
              <a:chExt cx="1218600" cy="1295280"/>
            </a:xfrm>
          </p:grpSpPr>
          <p:sp>
            <p:nvSpPr>
              <p:cNvPr id="190" name=""/>
              <p:cNvSpPr/>
              <p:nvPr/>
            </p:nvSpPr>
            <p:spPr>
              <a:xfrm>
                <a:off x="2361960" y="2362320"/>
                <a:ext cx="0" cy="12952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361960" y="3657600"/>
                <a:ext cx="91404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057400" y="2895480"/>
                <a:ext cx="10666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66"/>
                    </a:solidFill>
                    <a:latin typeface="Arial"/>
                  </a:rPr>
                  <a:t>4x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1828800" y="2362320"/>
              <a:ext cx="0" cy="1447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28800" y="3809880"/>
              <a:ext cx="14475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23880" y="2895480"/>
              <a:ext cx="609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66"/>
                  </a:solidFill>
                  <a:latin typeface="Arial"/>
                </a:rPr>
                <a:t>4x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5715000" y="8380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838080" y="4572000"/>
            <a:ext cx="1258920" cy="11365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7162920" y="4648320"/>
            <a:ext cx="1258920" cy="11365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8"/>
          <a:stretch/>
        </p:blipFill>
        <p:spPr>
          <a:xfrm>
            <a:off x="7391520" y="838080"/>
            <a:ext cx="1245960" cy="129564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5715000" y="2514600"/>
            <a:ext cx="2561760" cy="1143000"/>
            <a:chOff x="5715000" y="2514600"/>
            <a:chExt cx="2561760" cy="1143000"/>
          </a:xfrm>
        </p:grpSpPr>
        <p:sp>
          <p:nvSpPr>
            <p:cNvPr id="201" name=""/>
            <p:cNvSpPr/>
            <p:nvPr/>
          </p:nvSpPr>
          <p:spPr>
            <a:xfrm>
              <a:off x="5715000" y="365760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58000" y="2514600"/>
              <a:ext cx="0" cy="114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01040" y="2743200"/>
              <a:ext cx="24757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0000"/>
                  </a:solidFill>
                  <a:latin typeface="Arial"/>
                </a:rPr>
                <a:t>Additional analog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0000"/>
                  </a:solidFill>
                  <a:latin typeface="Arial"/>
                </a:rPr>
                <a:t>and digital in- / out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715000" y="365760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828440" y="4114800"/>
            <a:ext cx="2595240" cy="1219320"/>
            <a:chOff x="1828440" y="4114800"/>
            <a:chExt cx="2595240" cy="1219320"/>
          </a:xfrm>
        </p:grpSpPr>
        <p:sp>
          <p:nvSpPr>
            <p:cNvPr id="206" name=""/>
            <p:cNvSpPr/>
            <p:nvPr/>
          </p:nvSpPr>
          <p:spPr>
            <a:xfrm>
              <a:off x="3352680" y="4114800"/>
              <a:ext cx="0" cy="121932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1828440" y="5334120"/>
              <a:ext cx="152388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87800" y="4648320"/>
              <a:ext cx="2135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USB link, GPIB li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803120" y="4114800"/>
            <a:ext cx="2359080" cy="1219320"/>
            <a:chOff x="4803120" y="4114800"/>
            <a:chExt cx="2359080" cy="1219320"/>
          </a:xfrm>
        </p:grpSpPr>
        <p:sp>
          <p:nvSpPr>
            <p:cNvPr id="210" name=""/>
            <p:cNvSpPr/>
            <p:nvPr/>
          </p:nvSpPr>
          <p:spPr>
            <a:xfrm>
              <a:off x="5638680" y="4114800"/>
              <a:ext cx="0" cy="121932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5638320" y="5334120"/>
              <a:ext cx="152388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03120" y="4495680"/>
              <a:ext cx="1665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Etherne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(LAN or direc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3" name="NDL_ppt" descr=""/>
          <p:cNvPicPr/>
          <p:nvPr/>
        </p:nvPicPr>
        <p:blipFill>
          <a:blip r:embed="rId9"/>
          <a:stretch/>
        </p:blipFill>
        <p:spPr>
          <a:xfrm>
            <a:off x="3276720" y="4114800"/>
            <a:ext cx="2438280" cy="2365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rocessing the Measuring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1143000"/>
            <a:ext cx="8305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valuation according EN501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esentation all measured values in time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tatistical and regression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stimation of voltage dips and sw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nalysis of voltage and current wave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valuation of ripple control signals (signalling volt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inting and copying all pictures and text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xport of measured data in ASCII-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N50160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5867280" cy="35319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52280" y="762120"/>
            <a:ext cx="7010640" cy="1904760"/>
          </a:xfrm>
          <a:prstGeom prst="wedgeEllipseCallout">
            <a:avLst>
              <a:gd name="adj1" fmla="val 61527"/>
              <a:gd name="adj2" fmla="val 8266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80720" y="3276720"/>
            <a:ext cx="229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est result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percentage of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inside the tole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2514600"/>
            <a:ext cx="6019920" cy="1752480"/>
          </a:xfrm>
          <a:prstGeom prst="wedgeEllipseCallout">
            <a:avLst>
              <a:gd name="adj1" fmla="val -41009"/>
              <a:gd name="adj2" fmla="val 92481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8880" y="5029200"/>
            <a:ext cx="36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etailed description of test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Detailed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5410080" cy="2779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52280" y="1143000"/>
            <a:ext cx="6019920" cy="838080"/>
          </a:xfrm>
          <a:prstGeom prst="wedgeEllipseCallout">
            <a:avLst>
              <a:gd name="adj1" fmla="val 80087"/>
              <a:gd name="adj2" fmla="val 70833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80720" y="2133720"/>
            <a:ext cx="260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Maximum and minim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of the analysed valu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est 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1905120"/>
            <a:ext cx="5791320" cy="1523880"/>
          </a:xfrm>
          <a:prstGeom prst="wedgeEllipseCallout">
            <a:avLst>
              <a:gd name="adj1" fmla="val -49069"/>
              <a:gd name="adj2" fmla="val 94689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8880" y="403848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ime plot of the analysed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914400" y="2133720"/>
            <a:ext cx="7658280" cy="3933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Analysis of Measured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7162920" cy="24368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380880" y="1371600"/>
            <a:ext cx="7562880" cy="25718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838080" y="1981080"/>
            <a:ext cx="7562880" cy="25718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1447920" y="2666880"/>
            <a:ext cx="739116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valuating Voltage D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7067520" cy="50385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52280" y="914400"/>
            <a:ext cx="4724640" cy="838080"/>
          </a:xfrm>
          <a:prstGeom prst="wedgeEllipseCallout">
            <a:avLst>
              <a:gd name="adj1" fmla="val 109240"/>
              <a:gd name="adj2" fmla="val -473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238880" y="91440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uration and dep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2971800"/>
            <a:ext cx="7772400" cy="2438280"/>
          </a:xfrm>
          <a:prstGeom prst="wedgeEllipseCallout">
            <a:avLst>
              <a:gd name="adj1" fmla="val 50388"/>
              <a:gd name="adj2" fmla="val -8984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238880" y="1905120"/>
            <a:ext cx="16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Plo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epth-durati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Displaying the Voltage Pro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914400" y="914400"/>
            <a:ext cx="7562880" cy="25718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919800" y="3657600"/>
            <a:ext cx="50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isplaying the 10ms values of the line vol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e- and post-triggering time can be def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Waveform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7562880" cy="2571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690120" y="3657600"/>
            <a:ext cx="45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waveforms are recorded as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Sampling rate can be chosen up to 50 k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Analysis of Main Signa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2640" y="3657600"/>
            <a:ext cx="708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centre frequency of main signalling must be chosen in adv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signalling voltages are recorded as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While analysing you are able to see a “voltage telegram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756288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ore Compet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90720" y="762120"/>
            <a:ext cx="716256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ecision Measurement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on Power, Energy, Harmonics, Fli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ower Quality and Disturbanc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3276720"/>
            <a:ext cx="4038840" cy="1371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Power Analysers LM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for Measu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on Components, Devic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Appliances and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20968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roperties of 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LMG95, LMG310, LMG4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220968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roduct Infl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SYS61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510552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Network 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QA4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3650000">
            <a:off x="1447560" y="3429000"/>
            <a:ext cx="1295280" cy="533520"/>
          </a:xfrm>
          <a:prstGeom prst="rightArrow">
            <a:avLst>
              <a:gd name="adj1" fmla="val 50000"/>
              <a:gd name="adj2" fmla="val 606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rot="7950000">
            <a:off x="6629040" y="3352680"/>
            <a:ext cx="1295280" cy="533520"/>
          </a:xfrm>
          <a:prstGeom prst="rightArrow">
            <a:avLst>
              <a:gd name="adj1" fmla="val 50000"/>
              <a:gd name="adj2" fmla="val 606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rot="16204800">
            <a:off x="4494960" y="457200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266688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1218960" y="1218600"/>
            <a:ext cx="3199680" cy="44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724640" y="1218240"/>
            <a:ext cx="3199680" cy="44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91440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odern power quality monitoring requires a high-precise measurement of customer’s behavi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ost of the existing measuring tools are not able to fulfil an accurate measurement on power electronic 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PQA450 combines the capability of a power quality analyser with properties of high-performance power 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t can be used for power quality monitoring as well as for analysis of power electronic equipment with long-term data log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Functionality of ZES Power 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66680" y="1143000"/>
            <a:ext cx="7162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easuring tools for pow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lectronic equipment, electrical networ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nd appli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895480"/>
            <a:ext cx="716292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electronic in industrial and household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3809880"/>
            <a:ext cx="716256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generation, transmission and distribution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4724280"/>
            <a:ext cx="716292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Electrical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3733920"/>
            <a:ext cx="609840" cy="1828800"/>
          </a:xfrm>
          <a:custGeom>
            <a:avLst/>
            <a:gdLst>
              <a:gd name="textAreaLeft" fmla="*/ 81720 w 609840"/>
              <a:gd name="textAreaRight" fmla="*/ 528120 w 60984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0800000">
            <a:off x="8305560" y="3352680"/>
            <a:ext cx="609480" cy="1905120"/>
          </a:xfrm>
          <a:custGeom>
            <a:avLst/>
            <a:gdLst>
              <a:gd name="textAreaLeft" fmla="*/ 81360 w 609480"/>
              <a:gd name="textAreaRight" fmla="*/ 528120 w 609480"/>
              <a:gd name="textAreaTop" fmla="*/ 333360 h 1905120"/>
              <a:gd name="textAreaBottom" fmla="*/ 138132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819720" y="980280"/>
            <a:ext cx="6839280" cy="4872240"/>
            <a:chOff x="819720" y="980280"/>
            <a:chExt cx="6839280" cy="4872240"/>
          </a:xfrm>
        </p:grpSpPr>
        <p:sp>
          <p:nvSpPr>
            <p:cNvPr id="75" name=""/>
            <p:cNvSpPr/>
            <p:nvPr/>
          </p:nvSpPr>
          <p:spPr>
            <a:xfrm rot="1138800">
              <a:off x="1143000" y="1905120"/>
              <a:ext cx="6192720" cy="30225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08000" y="1981080"/>
              <a:ext cx="200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Quality assur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3949920" y="785880"/>
            <a:ext cx="4563720" cy="5084640"/>
            <a:chOff x="3949920" y="785880"/>
            <a:chExt cx="4563720" cy="5084640"/>
          </a:xfrm>
        </p:grpSpPr>
        <p:sp>
          <p:nvSpPr>
            <p:cNvPr id="78" name=""/>
            <p:cNvSpPr/>
            <p:nvPr/>
          </p:nvSpPr>
          <p:spPr>
            <a:xfrm rot="18298800">
              <a:off x="3970080" y="2125440"/>
              <a:ext cx="4523040" cy="24051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3800" y="110016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search &amp; develop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762120" y="4038480"/>
            <a:ext cx="1676160" cy="1371600"/>
            <a:chOff x="762120" y="4038480"/>
            <a:chExt cx="1676160" cy="1371600"/>
          </a:xfrm>
        </p:grpSpPr>
        <p:sp>
          <p:nvSpPr>
            <p:cNvPr id="81" name=""/>
            <p:cNvSpPr/>
            <p:nvPr/>
          </p:nvSpPr>
          <p:spPr>
            <a:xfrm>
              <a:off x="762120" y="4191120"/>
              <a:ext cx="1676160" cy="121896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42040" y="403848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intain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443160" y="838080"/>
            <a:ext cx="8700840" cy="5092920"/>
            <a:chOff x="443160" y="838080"/>
            <a:chExt cx="8700840" cy="5092920"/>
          </a:xfrm>
        </p:grpSpPr>
        <p:sp>
          <p:nvSpPr>
            <p:cNvPr id="84" name=""/>
            <p:cNvSpPr/>
            <p:nvPr/>
          </p:nvSpPr>
          <p:spPr>
            <a:xfrm>
              <a:off x="443160" y="838080"/>
              <a:ext cx="182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Basic Accuracy [%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548840" y="5105520"/>
              <a:ext cx="159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Bandwidth [Hz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766800" y="121896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6800" y="5486400"/>
              <a:ext cx="76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6800" y="449568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6800" y="320040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66800" y="198108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44332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411984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79600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747252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14720" y="5562720"/>
              <a:ext cx="556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K                    10K                    100K                    1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228600" y="1752480"/>
            <a:ext cx="6858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,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0040" y="52560"/>
            <a:ext cx="43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Main Application Fie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zeslogo_1" descr=""/>
          <p:cNvPicPr/>
          <p:nvPr/>
        </p:nvPicPr>
        <p:blipFill>
          <a:blip r:embed="rId4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1671840" y="4495680"/>
            <a:ext cx="1351080" cy="1080360"/>
            <a:chOff x="1671840" y="4495680"/>
            <a:chExt cx="1351080" cy="1080360"/>
          </a:xfrm>
        </p:grpSpPr>
        <p:sp>
          <p:nvSpPr>
            <p:cNvPr id="101" name=""/>
            <p:cNvSpPr/>
            <p:nvPr/>
          </p:nvSpPr>
          <p:spPr>
            <a:xfrm>
              <a:off x="1671840" y="5299560"/>
              <a:ext cx="135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TM39 0.2% 2k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" name="tm39_cee" descr=""/>
            <p:cNvPicPr/>
            <p:nvPr/>
          </p:nvPicPr>
          <p:blipFill>
            <a:blip r:embed="rId5"/>
            <a:stretch/>
          </p:blipFill>
          <p:spPr>
            <a:xfrm>
              <a:off x="1801080" y="4495680"/>
              <a:ext cx="1123920" cy="89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"/>
          <p:cNvGrpSpPr/>
          <p:nvPr/>
        </p:nvGrpSpPr>
        <p:grpSpPr>
          <a:xfrm>
            <a:off x="1738800" y="2895480"/>
            <a:ext cx="1877040" cy="1297440"/>
            <a:chOff x="1738800" y="2895480"/>
            <a:chExt cx="1877040" cy="1297440"/>
          </a:xfrm>
        </p:grpSpPr>
        <p:sp>
          <p:nvSpPr>
            <p:cNvPr id="104" name=""/>
            <p:cNvSpPr/>
            <p:nvPr/>
          </p:nvSpPr>
          <p:spPr>
            <a:xfrm>
              <a:off x="1738800" y="3885840"/>
              <a:ext cx="187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0 0.02% 5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5" name="LMG90_1" descr=""/>
            <p:cNvPicPr/>
            <p:nvPr/>
          </p:nvPicPr>
          <p:blipFill>
            <a:blip r:embed="rId6"/>
            <a:stretch/>
          </p:blipFill>
          <p:spPr>
            <a:xfrm>
              <a:off x="1752480" y="2895480"/>
              <a:ext cx="1752480" cy="115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"/>
          <p:cNvGrpSpPr/>
          <p:nvPr/>
        </p:nvGrpSpPr>
        <p:grpSpPr>
          <a:xfrm>
            <a:off x="3657600" y="3657600"/>
            <a:ext cx="1928520" cy="1105560"/>
            <a:chOff x="3657600" y="3657600"/>
            <a:chExt cx="1928520" cy="1105560"/>
          </a:xfrm>
        </p:grpSpPr>
        <p:sp>
          <p:nvSpPr>
            <p:cNvPr id="107" name=""/>
            <p:cNvSpPr/>
            <p:nvPr/>
          </p:nvSpPr>
          <p:spPr>
            <a:xfrm>
              <a:off x="3709080" y="4456080"/>
              <a:ext cx="187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450 0.1% 2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LMG%20450" descr=""/>
            <p:cNvPicPr/>
            <p:nvPr/>
          </p:nvPicPr>
          <p:blipFill>
            <a:blip r:embed="rId7"/>
            <a:stretch/>
          </p:blipFill>
          <p:spPr>
            <a:xfrm>
              <a:off x="3657600" y="3657600"/>
              <a:ext cx="1890720" cy="93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"/>
          <p:cNvGrpSpPr/>
          <p:nvPr/>
        </p:nvGrpSpPr>
        <p:grpSpPr>
          <a:xfrm>
            <a:off x="586080" y="1066680"/>
            <a:ext cx="2215440" cy="1069200"/>
            <a:chOff x="586080" y="1066680"/>
            <a:chExt cx="2215440" cy="1069200"/>
          </a:xfrm>
        </p:grpSpPr>
        <p:sp>
          <p:nvSpPr>
            <p:cNvPr id="110" name=""/>
            <p:cNvSpPr/>
            <p:nvPr/>
          </p:nvSpPr>
          <p:spPr>
            <a:xfrm>
              <a:off x="586080" y="1828800"/>
              <a:ext cx="221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5-Ref 0.015% 50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lmg95" descr=""/>
            <p:cNvPicPr/>
            <p:nvPr/>
          </p:nvPicPr>
          <p:blipFill>
            <a:blip r:embed="rId8"/>
            <a:stretch/>
          </p:blipFill>
          <p:spPr>
            <a:xfrm>
              <a:off x="754200" y="1066680"/>
              <a:ext cx="1814400" cy="90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"/>
          <p:cNvGrpSpPr/>
          <p:nvPr/>
        </p:nvGrpSpPr>
        <p:grpSpPr>
          <a:xfrm>
            <a:off x="5772240" y="2895480"/>
            <a:ext cx="2081160" cy="1297440"/>
            <a:chOff x="5772240" y="2895480"/>
            <a:chExt cx="2081160" cy="1297440"/>
          </a:xfrm>
        </p:grpSpPr>
        <p:sp>
          <p:nvSpPr>
            <p:cNvPr id="113" name=""/>
            <p:cNvSpPr/>
            <p:nvPr/>
          </p:nvSpPr>
          <p:spPr>
            <a:xfrm>
              <a:off x="5772240" y="3885840"/>
              <a:ext cx="20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310 0.05% 40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" name="LMG%20310" descr=""/>
            <p:cNvPicPr/>
            <p:nvPr/>
          </p:nvPicPr>
          <p:blipFill>
            <a:blip r:embed="rId9"/>
            <a:stretch/>
          </p:blipFill>
          <p:spPr>
            <a:xfrm>
              <a:off x="5791320" y="2895480"/>
              <a:ext cx="2043000" cy="111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"/>
          <p:cNvGrpSpPr/>
          <p:nvPr/>
        </p:nvGrpSpPr>
        <p:grpSpPr>
          <a:xfrm>
            <a:off x="6605280" y="1828800"/>
            <a:ext cx="1978920" cy="1069200"/>
            <a:chOff x="6605280" y="1828800"/>
            <a:chExt cx="1978920" cy="1069200"/>
          </a:xfrm>
        </p:grpSpPr>
        <p:sp>
          <p:nvSpPr>
            <p:cNvPr id="116" name=""/>
            <p:cNvSpPr/>
            <p:nvPr/>
          </p:nvSpPr>
          <p:spPr>
            <a:xfrm>
              <a:off x="6605280" y="2590920"/>
              <a:ext cx="197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5 0.02% 50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7" name="lmg95" descr=""/>
            <p:cNvPicPr/>
            <p:nvPr/>
          </p:nvPicPr>
          <p:blipFill>
            <a:blip r:embed="rId10"/>
            <a:stretch/>
          </p:blipFill>
          <p:spPr>
            <a:xfrm>
              <a:off x="6686640" y="1828800"/>
              <a:ext cx="1814400" cy="90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"/>
          <p:cNvGrpSpPr/>
          <p:nvPr/>
        </p:nvGrpSpPr>
        <p:grpSpPr>
          <a:xfrm>
            <a:off x="4187880" y="4191120"/>
            <a:ext cx="1918080" cy="1145160"/>
            <a:chOff x="4187880" y="4191120"/>
            <a:chExt cx="1918080" cy="1145160"/>
          </a:xfrm>
        </p:grpSpPr>
        <p:pic>
          <p:nvPicPr>
            <p:cNvPr id="119" name="PQA_ppt" descr=""/>
            <p:cNvPicPr/>
            <p:nvPr/>
          </p:nvPicPr>
          <p:blipFill>
            <a:blip r:embed="rId11"/>
            <a:stretch/>
          </p:blipFill>
          <p:spPr>
            <a:xfrm>
              <a:off x="4267440" y="4191120"/>
              <a:ext cx="167616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4187880" y="5029200"/>
              <a:ext cx="191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QA 450 0,1% 2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ower Quality Monitoring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57200" y="1905120"/>
            <a:ext cx="8077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ower quality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aracterising system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aracterising specific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escribing the current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Selecting the Monitoring</a:t>
            </a: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3520" y="1600200"/>
            <a:ext cx="7543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Low-cost instruments (measurement and display of the present resul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ail mounted devices for continuous monitoring and events recor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lack-box“ analysers with logging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High performance analysers with logging and visualis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Objects of Power Quality Monito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3352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nteraction of customer and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4920" y="914400"/>
            <a:ext cx="2514600" cy="51814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895480" y="990720"/>
            <a:ext cx="2590920" cy="761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Q monit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990720"/>
            <a:ext cx="2590560" cy="761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-11160" y="2133720"/>
            <a:ext cx="78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Measurement site                         Network                          Appl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-11880" y="2743200"/>
            <a:ext cx="86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Usually used tools                      PQ Analyser                    Power meter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-12600" y="3352680"/>
            <a:ext cx="8224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Needed capabilities                     Analysis of                         Long ter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customer                         data logg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behavi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7160" y="510552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The solution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572000" y="4800600"/>
            <a:ext cx="2286000" cy="1143000"/>
            <a:chOff x="4572000" y="4800600"/>
            <a:chExt cx="2286000" cy="1143000"/>
          </a:xfrm>
        </p:grpSpPr>
        <p:pic>
          <p:nvPicPr>
            <p:cNvPr id="147" name="PQA_ppt" descr=""/>
            <p:cNvPicPr/>
            <p:nvPr/>
          </p:nvPicPr>
          <p:blipFill>
            <a:blip r:embed="rId2"/>
            <a:stretch/>
          </p:blipFill>
          <p:spPr>
            <a:xfrm>
              <a:off x="4572000" y="4800600"/>
              <a:ext cx="2286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032080" y="5105520"/>
              <a:ext cx="134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66"/>
                  </a:solidFill>
                  <a:latin typeface="Arial"/>
                </a:rPr>
                <a:t>PQA4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ower Quality Analysers vs. Power Met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505320" y="4419720"/>
            <a:ext cx="1066680" cy="1218960"/>
          </a:xfrm>
          <a:custGeom>
            <a:avLst/>
            <a:gdLst>
              <a:gd name="textAreaLeft" fmla="*/ 0 w 1066680"/>
              <a:gd name="textAreaRight" fmla="*/ 1067040 w 10666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885" stAng="10800000" swAng="5400000"/>
                <a:lnTo>
                  <a:pt x="15107" y="4275"/>
                </a:lnTo>
                <a:lnTo>
                  <a:pt x="15107" y="0"/>
                </a:lnTo>
                <a:lnTo>
                  <a:pt x="21600" y="6079"/>
                </a:lnTo>
                <a:lnTo>
                  <a:pt x="15107" y="12158"/>
                </a:lnTo>
                <a:lnTo>
                  <a:pt x="15107" y="7883"/>
                </a:lnTo>
                <a:lnTo>
                  <a:pt x="12427" y="7883"/>
                </a:lnTo>
                <a:arcTo wR="8819" hR="4277" stAng="16200000" swAng="-5400000"/>
                <a:lnTo>
                  <a:pt x="3608" y="2160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6857280" y="4419720"/>
            <a:ext cx="1066680" cy="1218960"/>
          </a:xfrm>
          <a:custGeom>
            <a:avLst/>
            <a:gdLst>
              <a:gd name="textAreaLeft" fmla="*/ -360 w 1066680"/>
              <a:gd name="textAreaRight" fmla="*/ 1066680 w 10666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885" stAng="10800000" swAng="5400000"/>
                <a:lnTo>
                  <a:pt x="15107" y="4275"/>
                </a:lnTo>
                <a:lnTo>
                  <a:pt x="15107" y="0"/>
                </a:lnTo>
                <a:lnTo>
                  <a:pt x="21600" y="6079"/>
                </a:lnTo>
                <a:lnTo>
                  <a:pt x="15107" y="12158"/>
                </a:lnTo>
                <a:lnTo>
                  <a:pt x="15107" y="7883"/>
                </a:lnTo>
                <a:lnTo>
                  <a:pt x="12427" y="7883"/>
                </a:lnTo>
                <a:arcTo wR="8819" hR="4277" stAng="16200000" swAng="-5400000"/>
                <a:lnTo>
                  <a:pt x="3608" y="2160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QA_ppt" descr=""/>
          <p:cNvPicPr/>
          <p:nvPr/>
        </p:nvPicPr>
        <p:blipFill>
          <a:blip r:embed="rId1"/>
          <a:stretch/>
        </p:blipFill>
        <p:spPr>
          <a:xfrm>
            <a:off x="5105520" y="914400"/>
            <a:ext cx="3809880" cy="1905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What can PQA450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zeslogo_1" descr=""/>
          <p:cNvPicPr/>
          <p:nvPr/>
        </p:nvPicPr>
        <p:blipFill>
          <a:blip r:embed="rId2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28600" y="91440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Analysis according EN501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3581280"/>
            <a:ext cx="4724280" cy="38124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isplaying recent results (on-l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29528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Long-term data log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28600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Analysis and visualisation of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266688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Data analysis during the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3048120"/>
            <a:ext cx="4724280" cy="3045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Control and data transfer over 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4038480"/>
            <a:ext cx="472428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ll measured values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resolution of 200 ms (10 ms for volta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4648320"/>
            <a:ext cx="472428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Bandwidth 20 kHz, accuracy 0,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5105520"/>
            <a:ext cx="4724280" cy="6094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ccurate power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for small cos </a:t>
            </a:r>
            <a:r>
              <a:rPr b="1" lang="en-GB" sz="2000" spc="-1" strike="noStrike">
                <a:solidFill>
                  <a:srgbClr val="000066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5791320"/>
            <a:ext cx="472428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dditional analogue and digital 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1676520"/>
            <a:ext cx="4724280" cy="5331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Registration of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(r.m.s. values, curve forms, main signall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0T20:01:16Z</dcterms:created>
  <dc:creator>Dr.-Ing. Alexander Kuznietsov</dc:creator>
  <dc:description/>
  <dc:language>en-US</dc:language>
  <cp:lastModifiedBy>A. Kuznietsov</cp:lastModifiedBy>
  <cp:lastPrinted>2003-08-25T12:40:32Z</cp:lastPrinted>
  <dcterms:modified xsi:type="dcterms:W3CDTF">2003-08-25T12:41:26Z</dcterms:modified>
  <cp:revision>41</cp:revision>
  <dc:subject/>
  <dc:title>PQA450</dc:title>
</cp:coreProperties>
</file>